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FE67-6E45-4D08-9D1C-4E3ED2FF4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04F1-AD6B-4C19-BC01-3C62007ED9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E028-2816-4C6C-99F3-C78AA15248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32E2-6236-445E-A944-04914DE995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AF4A-36DF-4BB2-8707-7C95858B55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CA85-B72B-47F6-9881-767C12822A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9D4A-8950-4F34-8E53-DCE76195BF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2179-CBB3-49B9-8F84-13CAE5C36D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DA22-4C0A-421A-9197-2B0487F516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96B-10D1-4A12-910E-55599855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98B-D4E7-43F7-B9D1-F7F647CE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3547-04DE-4873-8A12-31E9563D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8DD-E9FD-4DE2-A88E-2CD4D102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63E-B3D5-4738-BF45-024AAC74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D6C-74B3-4034-A901-083AEB77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19C-E639-463B-9DD1-FE8542A0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CE0-63D6-4550-881F-9F3D8BFF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FED-B29F-4177-BE3C-479F8717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FC5-B5F8-4FD1-9DCD-E618E775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BAB-8EEC-4C37-88D5-886D68B0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BA7-1294-4D6A-8C2C-8DFBCB88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F093-E3F1-4541-B240-FC38A52B2D4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riting an O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ep 1: Select a Subjec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ep 2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phrases describing how your subject makes you feel and why you feel this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ep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many phrases telling unique qualities of your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ep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why your subject is important to you and why you adore it so much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ep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in some of your phrases into lines for your ode. Remember they don't have to rhy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vise your li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away any lines that are too sim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 more feeling to any meaningless l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ck a good opening line or sent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er the remaining lines into their best seq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ct a good closing line that clearly expresses your feelings about the su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write your ode in a final draft and maybe even add an illus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44:32Z</dcterms:created>
  <dc:creator>San Diego City Schools</dc:creator>
  <dc:description/>
  <dc:language>en-US</dc:language>
  <cp:lastModifiedBy>Siracusa Brittani</cp:lastModifiedBy>
  <dcterms:modified xsi:type="dcterms:W3CDTF">2014-04-14T14:18:10Z</dcterms:modified>
  <cp:revision>2</cp:revision>
  <dc:subject/>
  <dc:title>Writing an Ode</dc:title>
</cp:coreProperties>
</file>